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24.jpeg" ContentType="image/jpeg"/>
  <Override PartName="/ppt/media/image23.png" ContentType="image/png"/>
  <Override PartName="/ppt/media/image22.wmf" ContentType="image/x-wmf"/>
  <Override PartName="/ppt/media/image20.png" ContentType="image/png"/>
  <Override PartName="/ppt/media/image18.wmf" ContentType="image/x-wmf"/>
  <Override PartName="/ppt/media/image21.wmf" ContentType="image/x-wmf"/>
  <Override PartName="/ppt/media/image19.wmf" ContentType="image/x-wmf"/>
  <Override PartName="/ppt/media/image26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.png" ContentType="image/png"/>
  <Override PartName="/ppt/media/image31.png" ContentType="image/png"/>
  <Override PartName="/ppt/media/image30.png" ContentType="image/png"/>
  <Override PartName="/ppt/media/image35.jpeg" ContentType="image/jpeg"/>
  <Override PartName="/ppt/media/image28.png" ContentType="image/png"/>
  <Override PartName="/ppt/media/image8.jpeg" ContentType="image/jpeg"/>
  <Override PartName="/ppt/media/image38.png" ContentType="image/png"/>
  <Override PartName="/ppt/media/image14.png" ContentType="image/png"/>
  <Override PartName="/ppt/media/image9.wmf" ContentType="image/x-wmf"/>
  <Override PartName="/ppt/media/image42.jpeg" ContentType="image/jpeg"/>
  <Override PartName="/ppt/media/image33.jpeg" ContentType="image/jpeg"/>
  <Override PartName="/ppt/media/image39.png" ContentType="image/png"/>
  <Override PartName="/ppt/media/image40.jpeg" ContentType="image/jpeg"/>
  <Override PartName="/ppt/media/image44.jpeg" ContentType="image/jpeg"/>
  <Override PartName="/ppt/media/image12.wmf" ContentType="image/x-wmf"/>
  <Override PartName="/ppt/media/image13.png" ContentType="image/png"/>
  <Override PartName="/ppt/media/image5.png" ContentType="image/png"/>
  <Override PartName="/ppt/media/image43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15.wmf" ContentType="image/x-wmf"/>
  <Override PartName="/ppt/media/image41.jpeg" ContentType="image/jpeg"/>
  <Override PartName="/ppt/media/image11.png" ContentType="image/png"/>
  <Override PartName="/ppt/media/image10.wmf" ContentType="image/x-wmf"/>
  <Override PartName="/ppt/media/image4.jpeg" ContentType="image/jpeg"/>
  <Override PartName="/ppt/media/image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47EE-AE8F-4EC5-ACCD-61B2F0FAFE1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143A-584A-46CD-88AB-15818FA31DC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E044-7854-4496-BA60-515BC9201EB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00E3-40F6-442B-8279-6D9247F172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860F-A729-4587-9CCB-73E4AFC37B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F33A-8F7B-49BD-841F-6A7CE9F8FB1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4257-967E-4CDF-A400-7F31FA0FF4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565D-9993-4188-8819-534CFAB73D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4B8A-0CC8-48FC-94ED-5D167EE5FF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C2DE-3C92-4C1E-A5B9-14A212E352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EDEA-72FA-4798-96B3-84862C69B6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9C76-BA47-4D4E-B0C6-B157F6EE07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937C-02E4-4A3B-B5D7-EBA9E9666D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9765-CA6A-4FB9-A3C0-4BA8E95081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6CDF-4765-4C6E-A772-369B2BAF59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092F-3B99-4535-B6FF-53FE250EEC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Arial"/>
              </a:rPr>
              <a:t>هدف اصل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al health</a:t>
            </a:r>
            <a:r>
              <a:rPr b="0" lang="fa-IR" sz="1200" spc="-1" strike="noStrike">
                <a:solidFill>
                  <a:srgbClr val="000000"/>
                </a:solidFill>
                <a:latin typeface="Arial"/>
              </a:rPr>
              <a:t> پیشگیری اولیه و ثانویه است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F0D7-A0B7-4D90-8E45-50B41A1BD29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ADCD-500E-481B-86AA-79B4EC1C7D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8422-F57B-4594-B619-CCCF6E0465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1E0D-A3DC-4B97-886D-578E2DAC4E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AEFB-6735-4117-8263-377A029DC5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CDDF-6F89-405E-9268-248F509D30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9EDA-496A-4D17-A8B8-6F2D3DEE18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561F-5C22-46EC-98FC-9171DEF0E4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3676-05F5-4853-B9C5-8A16B96F28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F587-95EB-454C-B0CB-75BFE77082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15D6-882D-4DDF-8F1A-6C4CD8C7C1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E4DA-005E-4245-9A28-DA7EB7D7A4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7D15-07BF-45EB-B3F1-9607EFE022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F4AF-66D8-4864-90D2-123D009EB0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5DA9-B251-48DA-B815-EFE5C197D8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D892-0591-4532-BA0F-317D5ECFA1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3493-3F9B-4D06-8D5E-B30892A843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F4B0-41AC-4DF9-BD6F-6F176030D5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E065-4755-48A6-9F37-EAC613775E2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3/2/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283D-F9F1-405F-8641-7F866C9944D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7515-96CD-4FD9-B200-D13BEB844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5A67-A705-47EB-9B9B-16F3D181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3410-AB5B-4604-B761-7E9207455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0EDA-9E78-4B28-844E-E84AC8A9B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1CBE-5C87-40A2-98C6-01C542BC7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75A7-47FB-49BA-81B3-8F846E8C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834D-4341-42E3-8095-B0C236EB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0BB8-798D-4987-96BC-2172697E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43B4-67FE-4894-80EF-DD60FD58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A705-9107-4E80-811F-A5612D78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5B4F-5E04-4481-94CA-E177845A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039C-321A-4C56-AF67-5948E3C5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EC690-97A0-405E-BE00-6556FB8B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D1827-CD23-4B00-BD7E-CAEF7309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FA5C9-4F4A-4D68-82EE-CC45D88A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2BBB-FB5A-4790-B80F-2FD8DA5D5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45ED-06A6-4F52-AB25-0FEA095ED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46C97-DC49-4673-A331-F84CEAEA2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24895-DD7B-40D0-B259-9D0D9E87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5F152-403D-4F02-93EC-63228786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BC596-8CFD-44C7-ADAA-BC530A73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F43AA-8FB1-4AA4-B1AC-D3748818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B5E7-CBC9-4C6C-8A37-867A835B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42356-8711-459A-A5C4-199762B1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8B9C3-FC6E-40C9-ABF1-FCFEEC28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4BAA0-F6DA-4B9C-B11E-99B75D65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E9611-0A6A-4490-B3FF-F4426F6E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E42BD-34FE-43E2-9772-F0E118B2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A3E0F-25B2-4F44-8A41-2795C1D94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4FDC1-CCAF-4C88-BFAC-39AAD6266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F8A2E-55F0-41E7-9543-B28CA1B1E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821AA-7C5B-4252-A900-D54BAFDB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BD762-7D6C-4915-A058-8AEAB74A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41CA-9FE0-4D80-B943-C25B30B6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E75A6-8325-413F-9B43-D703CD22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8F295-DF5E-479A-9184-546FEE9C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BA6FB-8721-4E35-A6F8-B63FCB73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B7CCE-D3C5-4F11-8B77-B4D72533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B6DD6-2384-4EE5-813F-D578060A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FF1BD-977C-4D13-9562-AC938FA4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BBAA7-FEE7-442F-802C-5818A5B2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7C8AF-B681-4A0E-80D9-00ACD7ED7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C72E5-FE1B-482D-8336-BE230ADCF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618F-021F-41FE-8DE0-84CBA36C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0921-37FE-4B91-B2E5-3239BBCF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2654-3867-4BEE-8E0D-4E567351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749F-7453-499D-966E-4AE74069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AD29-F5A5-4F73-B443-D98DCF78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FA63-8924-456B-8F9B-173210B9F616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3B44-9410-43B6-B245-B6CD81B1EBAF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3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0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A00A-2045-4E98-88B9-4591E60C5B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44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81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2073-5C78-4A8E-8EA1-E979C3ACEE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5.wmf"/><Relationship Id="rId5" Type="http://schemas.openxmlformats.org/officeDocument/2006/relationships/image" Target="../media/image26.jpeg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" Target="slide28.xml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28.xml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" Target="slide28.xml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hyperlink" Target="http://images.google.com/imgres?imgurl=http://img.slate.com/media/1/123125/122981/2111757/2118667/02_Custom-Plugs_tn.jpg&amp;imgrefurl=http://www.slate.com/id/2118800/&amp;h=150&amp;w=205&amp;sz=6&amp;hl=en&amp;start=3&amp;tbnid=O3tLQE_O3zbjwM:&amp;tbnh=77&amp;tbnw=105&amp;prev=/images%3Fq%3D%2522ear%2Bplug%2522%26svnum%3D10%26hl%3Den%26lr%3D" TargetMode="External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ffice365.co.uk/im/pim/134049.jpg&amp;imgrefurl=http://www.office365.co.uk/Safety-Security/134049-3M-Premium-Ear.htm&amp;h=300&amp;w=250&amp;sz=22&amp;hl=en&amp;start=60&amp;tbnid=bWAGtQ4YuJreVM:&amp;tbnh=116&amp;tbnw=97&amp;prev=/images%3Fq%3D%2522ear%2Bmuff%2522%26start%3D40%26ndsp%3D20%26svnum%3D10%26hl%3Den%26lr%3D%26sa%3DN" TargetMode="External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914400" y="2895120"/>
            <a:ext cx="4952880" cy="3048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8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ABNORM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Arial"/>
              </a:rPr>
              <a:t>NORM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B Nazanin"/>
              </a:rPr>
              <a:t>1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  <a:ea typeface="B Nazanin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WordArt 4"/>
          <p:cNvSpPr txBox="1"/>
          <p:nvPr/>
        </p:nvSpPr>
        <p:spPr>
          <a:xfrm>
            <a:off x="2057400" y="685800"/>
            <a:ext cx="5181480" cy="14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PINAL RADIOGRAM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4" name="Picture 5" descr="014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معاینات دوره ا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457200" y="2131920"/>
            <a:ext cx="822960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Return to Work Examination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(RTW Exam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07960" y="2361960"/>
            <a:ext cx="82296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absence for a serious ill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Physical capac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job de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it examin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Structures of exit examination is the same as </a:t>
            </a:r>
            <a:r>
              <a:rPr b="0" lang="en-US" sz="3200" spc="-1" strike="noStrike">
                <a:solidFill>
                  <a:srgbClr val="33ccff"/>
                </a:solidFill>
                <a:latin typeface="Times New Roman"/>
                <a:ea typeface="Times New Roman"/>
              </a:rPr>
              <a:t>periodic exa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xit examination should be based on </a:t>
            </a:r>
            <a:r>
              <a:rPr b="0" lang="en-US" sz="3200" spc="-1" strike="noStrike">
                <a:solidFill>
                  <a:srgbClr val="33ccff"/>
                </a:solidFill>
                <a:latin typeface="Times New Roman"/>
                <a:ea typeface="Times New Roman"/>
              </a:rPr>
              <a:t>target organ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or substances specif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Classification of Sick Employe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Occupational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-related diseas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6d1e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d1ec"/>
                </a:solidFill>
                <a:latin typeface="Arial"/>
              </a:rPr>
              <a:t>Work-induced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6d1e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d1ec"/>
                </a:solidFill>
                <a:latin typeface="Arial"/>
              </a:rPr>
              <a:t>Work-aggravated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inger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Workplace-Disease Intera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AutoShape 4"/>
          <p:cNvSpPr/>
          <p:nvPr/>
        </p:nvSpPr>
        <p:spPr>
          <a:xfrm>
            <a:off x="838080" y="2362320"/>
            <a:ext cx="2743200" cy="1143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Workplace haz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6095880" y="2362320"/>
            <a:ext cx="2667240" cy="11286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Occupational 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6"/>
          <p:cNvSpPr/>
          <p:nvPr/>
        </p:nvSpPr>
        <p:spPr>
          <a:xfrm>
            <a:off x="6086520" y="4114800"/>
            <a:ext cx="2895480" cy="10666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Various Pre-exis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non-occupational dis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7"/>
          <p:cNvSpPr/>
          <p:nvPr/>
        </p:nvSpPr>
        <p:spPr>
          <a:xfrm>
            <a:off x="914400" y="41148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Workplace haz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8"/>
          <p:cNvSpPr/>
          <p:nvPr/>
        </p:nvSpPr>
        <p:spPr>
          <a:xfrm>
            <a:off x="3581280" y="28954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9"/>
          <p:cNvSpPr/>
          <p:nvPr/>
        </p:nvSpPr>
        <p:spPr>
          <a:xfrm>
            <a:off x="3581280" y="47242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10"/>
          <p:cNvSpPr/>
          <p:nvPr/>
        </p:nvSpPr>
        <p:spPr>
          <a:xfrm>
            <a:off x="4129200" y="23623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n indu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3962520" y="4195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n aggrav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hy diagnosis of occupational disease is importa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22507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priate and effective 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ive workplace inter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coworkers ( disease clust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o-legal asp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potential course of a disease &amp; the opportunities for</a:t>
            </a:r>
            <a:br>
              <a:rPr sz="24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31"/>
          <p:cNvSpPr/>
          <p:nvPr/>
        </p:nvSpPr>
        <p:spPr>
          <a:xfrm>
            <a:off x="250920" y="4076640"/>
            <a:ext cx="165708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s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32"/>
          <p:cNvSpPr/>
          <p:nvPr/>
        </p:nvSpPr>
        <p:spPr>
          <a:xfrm>
            <a:off x="2700360" y="4076640"/>
            <a:ext cx="172872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ymptomati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33"/>
          <p:cNvSpPr/>
          <p:nvPr/>
        </p:nvSpPr>
        <p:spPr>
          <a:xfrm>
            <a:off x="5076720" y="4076640"/>
            <a:ext cx="158616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mptomati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34"/>
          <p:cNvSpPr/>
          <p:nvPr/>
        </p:nvSpPr>
        <p:spPr>
          <a:xfrm>
            <a:off x="7308720" y="4076640"/>
            <a:ext cx="165744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icatio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41"/>
          <p:cNvSpPr/>
          <p:nvPr/>
        </p:nvSpPr>
        <p:spPr>
          <a:xfrm>
            <a:off x="2050920" y="450864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42"/>
          <p:cNvSpPr/>
          <p:nvPr/>
        </p:nvSpPr>
        <p:spPr>
          <a:xfrm>
            <a:off x="4500720" y="4508640"/>
            <a:ext cx="504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Line 43"/>
          <p:cNvSpPr/>
          <p:nvPr/>
        </p:nvSpPr>
        <p:spPr>
          <a:xfrm>
            <a:off x="6732720" y="4508640"/>
            <a:ext cx="504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Line 44"/>
          <p:cNvSpPr/>
          <p:nvPr/>
        </p:nvSpPr>
        <p:spPr>
          <a:xfrm>
            <a:off x="2050920" y="508464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45"/>
          <p:cNvSpPr/>
          <p:nvPr/>
        </p:nvSpPr>
        <p:spPr>
          <a:xfrm>
            <a:off x="6732720" y="508464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Line 46"/>
          <p:cNvSpPr/>
          <p:nvPr/>
        </p:nvSpPr>
        <p:spPr>
          <a:xfrm>
            <a:off x="4500720" y="5084640"/>
            <a:ext cx="5029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47"/>
          <p:cNvSpPr/>
          <p:nvPr/>
        </p:nvSpPr>
        <p:spPr>
          <a:xfrm>
            <a:off x="2050920" y="57340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48"/>
          <p:cNvSpPr/>
          <p:nvPr/>
        </p:nvSpPr>
        <p:spPr>
          <a:xfrm>
            <a:off x="4427640" y="573408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49"/>
          <p:cNvSpPr/>
          <p:nvPr/>
        </p:nvSpPr>
        <p:spPr>
          <a:xfrm>
            <a:off x="6443640" y="5661000"/>
            <a:ext cx="107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$$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$$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50"/>
          <p:cNvSpPr/>
          <p:nvPr/>
        </p:nvSpPr>
        <p:spPr>
          <a:xfrm>
            <a:off x="1547640" y="2852640"/>
            <a:ext cx="1511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m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51"/>
          <p:cNvSpPr/>
          <p:nvPr/>
        </p:nvSpPr>
        <p:spPr>
          <a:xfrm>
            <a:off x="3924360" y="2852640"/>
            <a:ext cx="180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52"/>
          <p:cNvSpPr/>
          <p:nvPr/>
        </p:nvSpPr>
        <p:spPr>
          <a:xfrm>
            <a:off x="6156360" y="2852640"/>
            <a:ext cx="172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rti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Line 53"/>
          <p:cNvSpPr/>
          <p:nvPr/>
        </p:nvSpPr>
        <p:spPr>
          <a:xfrm>
            <a:off x="4716360" y="3716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54"/>
          <p:cNvSpPr/>
          <p:nvPr/>
        </p:nvSpPr>
        <p:spPr>
          <a:xfrm>
            <a:off x="6948360" y="3716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55"/>
          <p:cNvSpPr/>
          <p:nvPr/>
        </p:nvSpPr>
        <p:spPr>
          <a:xfrm>
            <a:off x="2268360" y="3716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0" y="19810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VENTION OF WORK RELATED MUSCULOSKELETAL DISORDER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98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این بیماریها معمولا صدمات حادی نبوده و در طی هفته ها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ماهها و سالها مواجهه با وظایفی که نیاز به حرکات سریع و تکراری همراه با نیروی زیاد دارند ایجاد می شو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در گذشته برای این گروه از بیماریها از اصطلاحات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TD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SI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MD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استفاده میش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PREVENTION OF OCCUPATIONAL DISEA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Y:Morteza davoodi  M.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68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68" fill="hold"/>
                                        <p:tgtEl>
                                          <p:spTgt spid="3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68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68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ccupational Physical Stressors (Job Risk Factor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et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wkward pos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ct 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b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pet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pid repeated movements every few sec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typing, packa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4" descr="9"/>
          <p:cNvPicPr/>
          <p:nvPr/>
        </p:nvPicPr>
        <p:blipFill>
          <a:blip r:embed="rId3"/>
          <a:stretch/>
        </p:blipFill>
        <p:spPr>
          <a:xfrm>
            <a:off x="2484360" y="3645000"/>
            <a:ext cx="3556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r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3" descr=""/>
          <p:cNvPicPr/>
          <p:nvPr/>
        </p:nvPicPr>
        <p:blipFill>
          <a:blip r:embed="rId1"/>
          <a:stretch/>
        </p:blipFill>
        <p:spPr>
          <a:xfrm>
            <a:off x="5724360" y="4437000"/>
            <a:ext cx="1008360" cy="93528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f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s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load carrying, hand tool work, dentistry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5" descr=""/>
          <p:cNvPicPr/>
          <p:nvPr/>
        </p:nvPicPr>
        <p:blipFill>
          <a:blip r:embed="rId6"/>
          <a:stretch/>
        </p:blipFill>
        <p:spPr>
          <a:xfrm>
            <a:off x="2771640" y="3933720"/>
            <a:ext cx="1092240" cy="11304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6" descr="brewery2_6"/>
          <p:cNvPicPr/>
          <p:nvPr/>
        </p:nvPicPr>
        <p:blipFill>
          <a:blip r:embed="rId7"/>
          <a:stretch/>
        </p:blipFill>
        <p:spPr>
          <a:xfrm>
            <a:off x="3995640" y="1628640"/>
            <a:ext cx="3276720" cy="19051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ulder abduction, flexion, ele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electrician, plumber, painter, car assembly line, telephone operator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2"/>
          <a:stretch/>
        </p:blipFill>
        <p:spPr>
          <a:xfrm>
            <a:off x="3348000" y="3429000"/>
            <a:ext cx="1360440" cy="1368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cabinet8_7"/>
          <p:cNvPicPr/>
          <p:nvPr/>
        </p:nvPicPr>
        <p:blipFill>
          <a:blip r:embed="rId3"/>
          <a:stretch/>
        </p:blipFill>
        <p:spPr>
          <a:xfrm>
            <a:off x="1042920" y="2997360"/>
            <a:ext cx="1430280" cy="19810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6" descr="cabinet11_10"/>
          <p:cNvPicPr/>
          <p:nvPr/>
        </p:nvPicPr>
        <p:blipFill>
          <a:blip r:embed="rId4"/>
          <a:stretch/>
        </p:blipFill>
        <p:spPr>
          <a:xfrm>
            <a:off x="5724360" y="2997360"/>
            <a:ext cx="1730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ck flexion, extension, lateral be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VDT users, typists, writers, copy editors, precise workers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2"/>
          <a:stretch/>
        </p:blipFill>
        <p:spPr>
          <a:xfrm>
            <a:off x="1908000" y="3429000"/>
            <a:ext cx="1368720" cy="10796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notebook%20only"/>
          <p:cNvPicPr/>
          <p:nvPr/>
        </p:nvPicPr>
        <p:blipFill>
          <a:blip r:embed="rId3"/>
          <a:stretch/>
        </p:blipFill>
        <p:spPr>
          <a:xfrm>
            <a:off x="4356000" y="2637000"/>
            <a:ext cx="26672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0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unk bending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i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farmers, construc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ers, manufacturing workers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Picture 4" descr="cabinet10_9"/>
          <p:cNvPicPr/>
          <p:nvPr/>
        </p:nvPicPr>
        <p:blipFill>
          <a:blip r:embed="rId2"/>
          <a:stretch/>
        </p:blipFill>
        <p:spPr>
          <a:xfrm>
            <a:off x="5292720" y="2133720"/>
            <a:ext cx="2036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uat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e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Picture 4" descr=""/>
          <p:cNvPicPr/>
          <p:nvPr/>
        </p:nvPicPr>
        <p:blipFill>
          <a:blip r:embed="rId3"/>
          <a:stretch/>
        </p:blipFill>
        <p:spPr>
          <a:xfrm>
            <a:off x="4284720" y="2060640"/>
            <a:ext cx="1657440" cy="28810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"/>
          <p:cNvPicPr/>
          <p:nvPr/>
        </p:nvPicPr>
        <p:blipFill>
          <a:blip r:embed="rId4"/>
          <a:stretch/>
        </p:blipFill>
        <p:spPr>
          <a:xfrm>
            <a:off x="1619280" y="4508640"/>
            <a:ext cx="180036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2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st extension, flexion, ulnar dev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typists, repairmen, VDT users, tailors, packaging industry, butchers, textile workers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Picture 4" descr=""/>
          <p:cNvPicPr/>
          <p:nvPr/>
        </p:nvPicPr>
        <p:blipFill>
          <a:blip r:embed="rId2"/>
          <a:stretch/>
        </p:blipFill>
        <p:spPr>
          <a:xfrm>
            <a:off x="6156360" y="2637000"/>
            <a:ext cx="1458720" cy="9619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5" descr=""/>
          <p:cNvPicPr/>
          <p:nvPr/>
        </p:nvPicPr>
        <p:blipFill>
          <a:blip r:embed="rId3"/>
          <a:stretch/>
        </p:blipFill>
        <p:spPr>
          <a:xfrm>
            <a:off x="1258920" y="2421000"/>
            <a:ext cx="1434960" cy="10159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6" descr=""/>
          <p:cNvPicPr/>
          <p:nvPr/>
        </p:nvPicPr>
        <p:blipFill>
          <a:blip r:embed="rId4"/>
          <a:stretch/>
        </p:blipFill>
        <p:spPr>
          <a:xfrm>
            <a:off x="3708360" y="2492280"/>
            <a:ext cx="151128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84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3" name="Object 4"/>
          <p:cNvGraphicFramePr/>
          <p:nvPr/>
        </p:nvGraphicFramePr>
        <p:xfrm>
          <a:off x="4427640" y="1628640"/>
          <a:ext cx="4066920" cy="501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7640" y="1628640"/>
                    <a:ext cx="4066920" cy="501336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0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7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longed sitting and static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VDT users, clerical work, textile workers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Picture 4" descr="Figure 6: Stresses because of bifocal lenses"/>
          <p:cNvPicPr/>
          <p:nvPr/>
        </p:nvPicPr>
        <p:blipFill>
          <a:blip r:embed="rId2"/>
          <a:stretch/>
        </p:blipFill>
        <p:spPr>
          <a:xfrm>
            <a:off x="2916360" y="3933720"/>
            <a:ext cx="2663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9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4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SmartArt Placeholder 1025"/>
          <p:cNvGrpSpPr/>
          <p:nvPr/>
        </p:nvGrpSpPr>
        <p:grpSpPr>
          <a:xfrm>
            <a:off x="0" y="990720"/>
            <a:ext cx="9143640" cy="4462920"/>
            <a:chOff x="0" y="990720"/>
            <a:chExt cx="9143640" cy="4462920"/>
          </a:xfrm>
        </p:grpSpPr>
        <p:cxnSp>
          <p:nvCxnSpPr>
            <p:cNvPr id="338" name="_s1028"/>
            <p:cNvCxnSpPr>
              <a:stCxn id="339" idx="0"/>
              <a:endCxn id="340" idx="2"/>
            </p:cNvCxnSpPr>
            <p:nvPr/>
          </p:nvCxnSpPr>
          <p:spPr>
            <a:xfrm flipH="1" flipV="1" rot="5400000">
              <a:off x="2658600" y="3296520"/>
              <a:ext cx="558360" cy="152460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1" name="_s1029"/>
            <p:cNvCxnSpPr>
              <a:stCxn id="342" idx="0"/>
              <a:endCxn id="340" idx="2"/>
            </p:cNvCxnSpPr>
            <p:nvPr/>
          </p:nvCxnSpPr>
          <p:spPr>
            <a:xfrm flipV="1">
              <a:off x="3699720" y="3779640"/>
              <a:ext cx="1800" cy="558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3" name="_s1030"/>
            <p:cNvCxnSpPr>
              <a:stCxn id="344" idx="0"/>
              <a:endCxn id="340" idx="2"/>
            </p:cNvCxnSpPr>
            <p:nvPr/>
          </p:nvCxnSpPr>
          <p:spPr>
            <a:xfrm flipV="1" rot="16200000">
              <a:off x="4183200" y="3295800"/>
              <a:ext cx="558360" cy="152604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5" name="_s1031"/>
            <p:cNvCxnSpPr>
              <a:stCxn id="346" idx="0"/>
              <a:endCxn id="340" idx="2"/>
            </p:cNvCxnSpPr>
            <p:nvPr/>
          </p:nvCxnSpPr>
          <p:spPr>
            <a:xfrm flipV="1" rot="16200000">
              <a:off x="4945320" y="2533680"/>
              <a:ext cx="558360" cy="305028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7" name="_s1032"/>
            <p:cNvCxnSpPr>
              <a:stCxn id="348" idx="0"/>
              <a:endCxn id="340" idx="2"/>
            </p:cNvCxnSpPr>
            <p:nvPr/>
          </p:nvCxnSpPr>
          <p:spPr>
            <a:xfrm flipH="1" flipV="1" rot="5400000">
              <a:off x="1898280" y="2535840"/>
              <a:ext cx="558360" cy="304596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9" name="_s1033"/>
            <p:cNvCxnSpPr>
              <a:stCxn id="350" idx="1"/>
              <a:endCxn id="351" idx="2"/>
            </p:cNvCxnSpPr>
            <p:nvPr/>
          </p:nvCxnSpPr>
          <p:spPr>
            <a:xfrm rot="10800000">
              <a:off x="7619040" y="2105640"/>
              <a:ext cx="218160" cy="1116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52" name="_s1034"/>
            <p:cNvCxnSpPr>
              <a:stCxn id="340" idx="3"/>
              <a:endCxn id="351" idx="2"/>
            </p:cNvCxnSpPr>
            <p:nvPr/>
          </p:nvCxnSpPr>
          <p:spPr>
            <a:xfrm flipV="1">
              <a:off x="4353480" y="2105640"/>
              <a:ext cx="3266640" cy="1116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51" name="_s1035"/>
            <p:cNvSpPr/>
            <p:nvPr/>
          </p:nvSpPr>
          <p:spPr>
            <a:xfrm>
              <a:off x="6966360" y="99072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PUBLIC HEALTH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_s1036"/>
            <p:cNvSpPr/>
            <p:nvPr/>
          </p:nvSpPr>
          <p:spPr>
            <a:xfrm>
              <a:off x="3047040" y="266436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HEALTH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_s1037"/>
            <p:cNvSpPr/>
            <p:nvPr/>
          </p:nvSpPr>
          <p:spPr>
            <a:xfrm>
              <a:off x="7837200" y="266436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..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HEALTH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_s1038"/>
            <p:cNvSpPr/>
            <p:nvPr/>
          </p:nvSpPr>
          <p:spPr>
            <a:xfrm>
              <a:off x="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MEDICIN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_s1039"/>
            <p:cNvSpPr/>
            <p:nvPr/>
          </p:nvSpPr>
          <p:spPr>
            <a:xfrm>
              <a:off x="609552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NURS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_s1040"/>
            <p:cNvSpPr/>
            <p:nvPr/>
          </p:nvSpPr>
          <p:spPr>
            <a:xfrm>
              <a:off x="457128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ERGONOM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_s1041"/>
            <p:cNvSpPr/>
            <p:nvPr/>
          </p:nvSpPr>
          <p:spPr>
            <a:xfrm>
              <a:off x="304704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SAFET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_s1042"/>
            <p:cNvSpPr/>
            <p:nvPr/>
          </p:nvSpPr>
          <p:spPr>
            <a:xfrm>
              <a:off x="1523880" y="4338000"/>
              <a:ext cx="130500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HYGIEN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tact st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p and hard su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hand as a ham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knee as a ham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Picture 4" descr=""/>
          <p:cNvPicPr/>
          <p:nvPr/>
        </p:nvPicPr>
        <p:blipFill>
          <a:blip r:embed="rId4"/>
          <a:stretch/>
        </p:blipFill>
        <p:spPr>
          <a:xfrm>
            <a:off x="1979640" y="4292640"/>
            <a:ext cx="2016000" cy="18032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Figure 3: Contact stress from the table edge"/>
          <p:cNvPicPr/>
          <p:nvPr/>
        </p:nvPicPr>
        <p:blipFill>
          <a:blip r:embed="rId5"/>
          <a:stretch/>
        </p:blipFill>
        <p:spPr>
          <a:xfrm>
            <a:off x="6756480" y="1844640"/>
            <a:ext cx="2387520" cy="13208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6" descr=""/>
          <p:cNvPicPr/>
          <p:nvPr/>
        </p:nvPicPr>
        <p:blipFill>
          <a:blip r:embed="rId6"/>
          <a:stretch/>
        </p:blipFill>
        <p:spPr>
          <a:xfrm>
            <a:off x="5003640" y="4292640"/>
            <a:ext cx="201636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3" dur="20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0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5" dur="20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7" dur="2000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4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Arial"/>
              </a:rPr>
              <a:t>فاکتورهای سایکوسوشیال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تقاضای بالای شغل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رضایت شغل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حمایت از طرف همکاران یا سوپروایز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امنیت شغل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نگرانی در مورد آینده کار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نتایج مالی بیمار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حمایت از طرف اعضاء خانواده و افسردگ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0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150640"/>
            <a:ext cx="77724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Arial"/>
                <a:cs typeface="Traffic"/>
              </a:rPr>
              <a:t>آموزش كار با كامپيوتر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Titr"/>
              </a:rPr>
              <a:t>وضعيت كارب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بازو و ساق پا دروضعيت عمودي باش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ساعد وران در وضعيت افقي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پاها روي زمين (يا زير پايي)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پشتي صندلي‌انحناي به سمت‌داخل پشت‌را محافظت كن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وزن تنه روي‌سطوح باسن وران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به طور مساوي تقسيم شده باش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cs typeface="Traffic"/>
              </a:rPr>
              <a:t>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                                                               </a:t>
            </a:r>
            <a:r>
              <a:rPr b="0" lang="fa-IR" sz="1000" spc="-1" strike="noStrike" u="sng">
                <a:solidFill>
                  <a:srgbClr val="86d1ec"/>
                </a:solidFill>
                <a:uFillTx/>
                <a:latin typeface="Arial"/>
                <a:cs typeface="Traffic"/>
                <a:hlinkClick r:id="rId6" action="ppaction://hlinksldjump"/>
              </a:rPr>
              <a:t>برگشت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2505240" y="5864400"/>
            <a:ext cx="105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Picture 6" descr=""/>
          <p:cNvPicPr/>
          <p:nvPr/>
        </p:nvPicPr>
        <p:blipFill>
          <a:blip r:embed="rId7"/>
          <a:stretch/>
        </p:blipFill>
        <p:spPr>
          <a:xfrm>
            <a:off x="4772160" y="1676520"/>
            <a:ext cx="3790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Titr"/>
              </a:rPr>
              <a:t>تنظيم صندل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ارتفاع صندلي رابه صورتي تنظيم كنيد كه ارتفاع آرنج در حالتي كه دستها از طرفين آويزان است با ارتفاع ميز يكسان شو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فضاي آزاد بين لبه جلوي صندلي و پشت زانوبه اندازه يك مشت گره كرده باش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پشتي صندلي طوري تنظيم شودكه گودي كمر را دربر  گير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در صورتي كه پاها بالاتر از زمين قرار گرفت از زير پايي استفاده نماييد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                                                                  </a:t>
            </a:r>
            <a:r>
              <a:rPr b="0" lang="fa-IR" sz="1200" spc="-1" strike="noStrike" u="sng">
                <a:solidFill>
                  <a:srgbClr val="86d1ec"/>
                </a:solidFill>
                <a:uFillTx/>
                <a:latin typeface="Arial"/>
                <a:cs typeface="Traffic"/>
                <a:hlinkClick r:id="rId5" action="ppaction://hlinksldjump"/>
              </a:rPr>
              <a:t>برگش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Picture 5" descr="healthily01"/>
          <p:cNvPicPr/>
          <p:nvPr/>
        </p:nvPicPr>
        <p:blipFill>
          <a:blip r:embed="rId6"/>
          <a:stretch/>
        </p:blipFill>
        <p:spPr>
          <a:xfrm>
            <a:off x="4648320" y="1676520"/>
            <a:ext cx="41907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Titr"/>
              </a:rPr>
              <a:t>صفحه كليد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زاويه آرنج بايد بي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10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8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 درجه 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داراي شيب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25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 درجه 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تكيه گاه مچ دست داشته 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1400" spc="-1" strike="noStrike" u="sng">
                <a:solidFill>
                  <a:srgbClr val="86d1ec"/>
                </a:solidFill>
                <a:uFillTx/>
                <a:latin typeface="Arial"/>
                <a:cs typeface="Traffic"/>
                <a:hlinkClick r:id="rId4" action="ppaction://hlinksldjump"/>
              </a:rPr>
              <a:t>برگشت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8" name="Picture 6" descr=""/>
          <p:cNvPicPr/>
          <p:nvPr/>
        </p:nvPicPr>
        <p:blipFill>
          <a:blip r:embed="rId5"/>
          <a:stretch/>
        </p:blipFill>
        <p:spPr>
          <a:xfrm>
            <a:off x="5562720" y="4191120"/>
            <a:ext cx="2371680" cy="20286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7" descr=""/>
          <p:cNvPicPr/>
          <p:nvPr/>
        </p:nvPicPr>
        <p:blipFill>
          <a:blip r:embed="rId6"/>
          <a:stretch/>
        </p:blipFill>
        <p:spPr>
          <a:xfrm>
            <a:off x="5521320" y="1676520"/>
            <a:ext cx="24606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2" descr="Ergo32a"/>
          <p:cNvPicPr/>
          <p:nvPr/>
        </p:nvPicPr>
        <p:blipFill>
          <a:blip r:embed="rId1"/>
          <a:stretch/>
        </p:blipFill>
        <p:spPr>
          <a:xfrm>
            <a:off x="4572000" y="4292640"/>
            <a:ext cx="4248000" cy="22320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471" name="Picture 3" descr="Ergo30a"/>
          <p:cNvPicPr/>
          <p:nvPr/>
        </p:nvPicPr>
        <p:blipFill>
          <a:blip r:embed="rId2"/>
          <a:stretch/>
        </p:blipFill>
        <p:spPr>
          <a:xfrm>
            <a:off x="324000" y="1700280"/>
            <a:ext cx="4392360" cy="23907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7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4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Ergo32b"/>
          <p:cNvPicPr/>
          <p:nvPr/>
        </p:nvPicPr>
        <p:blipFill>
          <a:blip r:embed="rId1"/>
          <a:stretch/>
        </p:blipFill>
        <p:spPr>
          <a:xfrm>
            <a:off x="900000" y="2349360"/>
            <a:ext cx="3527640" cy="28083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473" name="Picture 3" descr="Ergo30b"/>
          <p:cNvPicPr/>
          <p:nvPr/>
        </p:nvPicPr>
        <p:blipFill>
          <a:blip r:embed="rId2"/>
          <a:stretch/>
        </p:blipFill>
        <p:spPr>
          <a:xfrm>
            <a:off x="4932360" y="2276640"/>
            <a:ext cx="3745080" cy="28796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1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6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Picture 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3886200" cy="27432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" descr=""/>
          <p:cNvPicPr/>
          <p:nvPr/>
        </p:nvPicPr>
        <p:blipFill>
          <a:blip r:embed="rId2"/>
          <a:stretch/>
        </p:blipFill>
        <p:spPr>
          <a:xfrm>
            <a:off x="4876920" y="228600"/>
            <a:ext cx="3809880" cy="27432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5" descr=""/>
          <p:cNvPicPr/>
          <p:nvPr/>
        </p:nvPicPr>
        <p:blipFill>
          <a:blip r:embed="rId3"/>
          <a:stretch/>
        </p:blipFill>
        <p:spPr>
          <a:xfrm>
            <a:off x="2743200" y="3505320"/>
            <a:ext cx="4038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VENTION OF NIH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0" y="2349360"/>
            <a:ext cx="9144000" cy="29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LO-WH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definition of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Occupational Health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motion &amp; maintenance of the highest degree of  Physical , Mental &amp; Social well-being of workers in all occupations.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Picture 4" descr="the_ear_diagra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RING LO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rnal o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acted ceru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eign 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oustic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longed noise expo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otraum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xic agents &amp; Dru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as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0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0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CCUPATIONAL HEARING LO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oustic traumatic inj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H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xic induced (industrial ototoxica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0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USTRIAL OTOTOXICA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VY METALS:     Pb, mercury, arsenic, cobalt, lithium, thoriu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CALS:     cyanide, benzene, aniline, CS2, CO, CCL4, styrene, tolue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S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ino glycosides, loop diuretics, anti neoplastics, salicylate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وسایل حفاظت فرد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 plu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al c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 mu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 plu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برخی از کارگران از گلوله های پنبه ای بجای پلاک گوش استفاده می کند که متاسفانه به هیچ وجه کارآیی ندار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1" name="Picture 5" descr="earplugs"/>
          <p:cNvPicPr/>
          <p:nvPr/>
        </p:nvPicPr>
        <p:blipFill>
          <a:blip r:embed="rId2"/>
          <a:stretch/>
        </p:blipFill>
        <p:spPr>
          <a:xfrm>
            <a:off x="0" y="3505320"/>
            <a:ext cx="4038480" cy="28954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7" descr="02_Custom-Plugs_t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3581280"/>
            <a:ext cx="40384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 muf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5" descr="1340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981080"/>
            <a:ext cx="3962520" cy="32767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7" descr="3M-1450"/>
          <p:cNvPicPr/>
          <p:nvPr/>
        </p:nvPicPr>
        <p:blipFill>
          <a:blip r:embed="rId3"/>
          <a:stretch/>
        </p:blipFill>
        <p:spPr>
          <a:xfrm>
            <a:off x="5105520" y="1905120"/>
            <a:ext cx="35812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بهترین وسیله حفاظت شنوایی کدام است؟</a:t>
            </a: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6" descr="02_Custom-Plugs_tn"/>
          <p:cNvPicPr/>
          <p:nvPr/>
        </p:nvPicPr>
        <p:blipFill>
          <a:blip r:embed="rId1"/>
          <a:stretch/>
        </p:blipFill>
        <p:spPr>
          <a:xfrm>
            <a:off x="533520" y="1981080"/>
            <a:ext cx="3429000" cy="39625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7" descr="134049"/>
          <p:cNvPicPr/>
          <p:nvPr/>
        </p:nvPicPr>
        <p:blipFill>
          <a:blip r:embed="rId2"/>
          <a:stretch/>
        </p:blipFill>
        <p:spPr>
          <a:xfrm>
            <a:off x="5029200" y="1981080"/>
            <a:ext cx="3581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e81808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4" descr="BK01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5"/>
          <p:cNvSpPr/>
          <p:nvPr/>
        </p:nvSpPr>
        <p:spPr>
          <a:xfrm>
            <a:off x="4449600" y="5105520"/>
            <a:ext cx="469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1808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6"/>
          <p:cNvSpPr/>
          <p:nvPr/>
        </p:nvSpPr>
        <p:spPr>
          <a:xfrm>
            <a:off x="4648320" y="502920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81808"/>
                </a:solidFill>
                <a:latin typeface="Verdana"/>
              </a:rPr>
              <a:t>Thanks a lo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3516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ccupational Hygiene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the branch of Occupation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 of Anticipating , Recognizing , Evaluating &amp; Controll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 hazards in the working environm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UNCTIONS &amp; ACTIVITIES</a:t>
            </a:r>
            <a:br>
              <a:rPr sz="32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f</a:t>
            </a:r>
            <a:br>
              <a:rPr sz="2400"/>
            </a:b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OCCUPATIONAL MEDIC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ealth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amination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of workers &amp; applicam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eparation &amp; arrangement of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protective &amp; contro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grams for workers exposed to health haz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VARIETY of HEALTH EXA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employment (preplacement) Health Exa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odic Health Examination – Gen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odic Health Examination – Specif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Ionizing Rad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Asbe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L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Merc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No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VARIETY of HEALTH EXA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 to  work  Examination – post illn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 to  work  Examination – post inj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 to  work  Examination – after a long abs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ight Personnel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e Fighter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er Personnel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tor vehicle operator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t ( Termination )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 Retirement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معاینات بدو استخدام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قبل از شروع به کار انجام شود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احراز دقیق هویت فر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تعیین دقیق وضعیت خدمت سرباز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شناسایی دقیق شغل فر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آیا شغل فعلی فرد مشخص است؟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آیا در سازمان جابجایی شغلی وجود دارد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احتمال تغییر شغل فرد در آینده چقدر است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در صورت ارتقا شغلی فرد چه نیازمندی های شغلی در آینده باید دارا باشد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04:46:36Z</dcterms:created>
  <dc:creator>health</dc:creator>
  <dc:description/>
  <dc:language>en-US</dc:language>
  <cp:lastModifiedBy>it</cp:lastModifiedBy>
  <dcterms:modified xsi:type="dcterms:W3CDTF">2019-12-25T04:04:55Z</dcterms:modified>
  <cp:revision>121</cp:revision>
  <dc:subject/>
  <dc:title>MUSCULOSKELETAL DISORDERS</dc:title>
</cp:coreProperties>
</file>